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9974-D0A7-4A83-9C8D-92AF4AA08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B641-EBD7-4246-A03B-ADDAC988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0124-F7EE-4FB1-929B-A86BEDDE9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0A15-3531-4726-9181-15427639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826D-6EAF-4C0C-A27D-01EE9B09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8578-CDA0-4085-B843-52DB7633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A341-A44D-4A80-AA36-EF4DEBAD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D0DE-45CE-4E44-AD7E-BE02662B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780E-37BB-436E-AB4A-99590760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A52D-4216-4E27-843F-17EA6C67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0FFC-D239-42F0-BF52-25D82E1F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88D6-E780-48C4-BA5F-51BDC4FE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633B-1B25-4406-895E-0E7AEBACD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3793824aphalWqawZ_ph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كل التسبيح يليق بك يا الله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شُكراً ومديح قليل لك يا رباه</a:t>
            </a:r>
            <a:br>
              <a:rPr sz="4000"/>
            </a:br>
            <a:br>
              <a:rPr sz="4000"/>
            </a:b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3451070cXNiyMwIsJ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60199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عبك يا رب يسبّح اسمك كلّ القوات تسجد لك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لائكة تعظّمك يسوع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ت الطريق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3793824aphalWqawZ_ph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91440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كل التسبيح يليق بك يا الله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شُكراً ومديح قليل لك يا رباه</a:t>
            </a:r>
            <a:br>
              <a:rPr sz="4000"/>
            </a:br>
            <a:br>
              <a:rPr sz="4000"/>
            </a:b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216836NubwvsYlWk_ph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  <a:cs typeface="Times New Roman"/>
              </a:rPr>
              <a:t>وحّدنا دوماً بروحك لنعمل مشيئتك</a:t>
            </a:r>
            <a:br>
              <a:rPr sz="4000"/>
            </a:br>
            <a:r>
              <a:rPr b="1" lang="ar-SA" sz="4000" spc="-1" strike="noStrike">
                <a:solidFill>
                  <a:srgbClr val="ffff66"/>
                </a:solidFill>
                <a:latin typeface="Times New Roman"/>
                <a:cs typeface="Times New Roman"/>
              </a:rPr>
              <a:t>من الأعماق نصرخ لك يسوع نحبك.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3793824aphalWqawZ_ph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91440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كل التسبيح يليق بك يا الله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شُكراً ومديح قليل لك يا رباه</a:t>
            </a:r>
            <a:br>
              <a:rPr sz="4000"/>
            </a:br>
            <a:br>
              <a:rPr sz="4000"/>
            </a:b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07:02:23Z</dcterms:created>
  <dc:creator>SUZANNE.MD</dc:creator>
  <dc:description/>
  <dc:language>en-US</dc:language>
  <cp:lastModifiedBy>USER</cp:lastModifiedBy>
  <dcterms:modified xsi:type="dcterms:W3CDTF">2003-02-03T12:24:12Z</dcterms:modified>
  <cp:revision>2</cp:revision>
  <dc:subject/>
  <dc:title>PowerPoint Presentation</dc:title>
</cp:coreProperties>
</file>